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23D5-C208-4F5C-B1D0-D1DE96BD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19A-B7FE-4CF6-9D32-91D912C6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CEF-7B30-4B60-B0B6-A788A805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CEBB-6F4A-4494-8BE4-3F3FFD98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44ED-A31E-46FF-A028-FE005025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9B63-959E-4933-A293-06820E64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0027-049B-4196-BD32-CB0C1472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76C2-439A-494E-8ACD-5B92AA1F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7313-3592-4B9E-801C-6857ADD2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86CE-5276-424A-B7BB-16D2D167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2BA3-B727-4F60-B415-227C07D8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87DE-5591-459A-A4A1-DD30581F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6E09-D7A6-44EA-A6D8-FDC6CB4C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2954-2537-4790-BC04-BACC55C7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BC09-1A92-4599-9720-4979DEF5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09C9-E617-44AB-8CEB-25FAE7C0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2962-F60F-4E60-8A15-BFEFA330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9E0-4267-436D-AAD2-232E24ED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3B9-4BF2-49D0-9902-EACD2BA7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3BA-6D03-4832-872C-6D063256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E294-C838-4E29-94A9-876C017C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270D-B15E-4CA2-AAA8-693C2525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E4A2-EB02-456B-885A-AB0154D8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2F31-14C6-44C2-A6AE-6733E47C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24D6-B22B-4CF1-983B-307CB99FB0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0FAB-50C1-4358-BCE9-F3DA60EB18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03640" y="476280"/>
            <a:ext cx="20160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d9d9ff"/>
                </a:solidFill>
                <a:uFillTx/>
                <a:latin typeface="Comic Sans MS"/>
              </a:rPr>
              <a:t>Symud</a:t>
            </a:r>
            <a:endParaRPr b="1" lang="en-US" sz="2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93360" y="1197000"/>
            <a:ext cx="47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Mae’r teulu Mostyn yn symud i d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ŷ newyd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2680" y="1700280"/>
            <a:ext cx="79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Mae ganddynt dri anifail anwes, ci, cath a llygode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. Nid yw’r anifeilia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n gallu teithio gyda’i gilydd yn y car, felly rhaid iddynt deithio ar wahâ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7240" y="2708280"/>
            <a:ext cx="805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Ond, mae problemau eraill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. Ni ellir gadael y ci a’r gath gyda’i gilydd gan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yddai’r ci yn rhedeg ar ôl y gath, ac ni ellir gadael y gath a’r llygod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yda’i gilydd am resymau amlw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10720" y="3933720"/>
            <a:ext cx="56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ut y gellir symud yr anifeiliaid i’w cartref newydd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236000" y="3573360"/>
            <a:ext cx="1158840" cy="1844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00000" y="4724280"/>
            <a:ext cx="1766880" cy="1114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427640" y="4653000"/>
            <a:ext cx="100800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7:50:00Z</dcterms:created>
  <dc:creator>Carwyn</dc:creator>
  <dc:description/>
  <dc:language>en-US</dc:language>
  <cp:lastModifiedBy>Carwyn</cp:lastModifiedBy>
  <dcterms:modified xsi:type="dcterms:W3CDTF">2008-12-04T19:30:37Z</dcterms:modified>
  <cp:revision>2</cp:revision>
  <dc:subject/>
  <dc:title>Symud</dc:title>
</cp:coreProperties>
</file>